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C675F-62FA-401F-88EA-1982DE2C5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848C4-7333-4A39-B62C-E92CEC672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43D60-1626-4042-B6CA-D3EF0C99E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F5CB6-9000-425A-A0C4-710B9C223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6F991-B16F-4A50-9A8C-03FEE5975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D919A-7C96-4EF1-94B0-9DACD250A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C9956-EE48-448A-9CFA-0FFC24DB9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191E2-019F-4843-B21B-837667433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98F69-C17B-4EC0-BA25-C89DF1088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58FE1-20C2-4CAF-949B-629306A66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42072-F56A-4983-A5E0-0D4904B2F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BF820-5E0E-4DC2-86F6-5D979E691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129BB-F43A-4F74-BCE1-C252FEB23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5D4C3-1B1F-481B-AC01-18AFE5CC9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608B3-0859-4617-845E-304166626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460BD-3E75-4022-9876-C675C384C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4253B-67D1-4DEE-96CC-7930DE25A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4E464F-65B0-4C18-A82B-A5F974C55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2907D6-2D55-4756-9D0C-E94712205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0E6177-A8DD-4746-B953-4A78553B9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6F39D8-F535-4269-AF42-8652F0668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6CB1E6-3FC5-4F61-ADE1-066CF8AD5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60767-CB35-4110-A573-692642765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155AB3-EBFC-43A2-AFEB-BE3E692E1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4E6957-A133-47E6-8EF8-765804464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4B9659-7CC7-49AF-B664-69FD9F3A9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57E932-32F9-41C1-B9BA-94A990953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496CF2-8416-4399-BAD9-ED78A4D14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D983C5-6A74-4092-9D97-C4708DD33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C86BBE-0E4A-4DAD-A5D8-DA470AEB2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B8BE91-C91C-4314-B502-B6FB88D2E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9BA560-3D85-44DF-9891-ADB8054E2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9D630B-2A09-4096-89A2-BDF841DD0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D5ECB-F758-4FDD-B5E3-607358A8B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2DDB9C-3662-4CFF-B577-A46A031EF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5DB40E-F8CF-41AF-BB76-767EAE868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2598DC-BEDD-414C-9470-825081D64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D850FD-12AC-41B6-826A-FEBEA357F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5F67AD-7999-4EA5-97CC-C33E83D52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67F606-E3A9-4063-9177-25053B0D2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44A85B-3CE7-47B3-8630-65CA1E4F4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227B90-3CDB-47D2-A394-A0BBBE880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978267-25A9-408B-9147-4B0F8C750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01044E-58AD-4F3B-87C1-85A8C70E1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C953B-2AA3-4622-8414-19571423C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B9C522-6302-49A9-9C56-968ACEC58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AF6661-AE0F-45FA-8AA1-709081A03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D24A36-0267-40F2-9244-BE64B9B95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E3C082-1BE2-4989-98C4-F03956FEC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D0ED3A-D542-4E60-942C-DBAC0B9B2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34BBB8-ABD9-4D0A-8C85-30DECD118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83D14A-31BC-4619-B34C-6A74E5D04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60FBDA-7630-4F6D-A400-2840E35EF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286BDE-E11D-4766-8E04-420E10C5D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856863-1A63-4BE5-8FFA-A4D237A50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6F943-5BD5-48F0-BA1B-FE962F03A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FBB293-2231-4855-85DF-4EC355475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A2F928-B022-4853-8BB3-E9076B266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711028-0321-421D-9DB1-0DCC239D0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F66ED1-E19C-43A5-80AF-7BE5AF166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4A081D-79B5-4873-BACE-4E8B97DDA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80323F-436B-4590-8EA7-874F1CF64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B2E496-54C3-44C7-B1B6-DDA8052F8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B3C2B4-5412-48F7-84B2-FFDE2F7F2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51E0C4-A2D6-423E-BA84-D237E704A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A18015-3F2B-4233-96A7-FE5228365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CBD3A-58AD-4D30-B9A9-B047E0662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B37FD7-74D9-442D-AE1E-1CB78784B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C1B9BA-E71F-4F25-B96A-313C5699F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BD3B5A-40D6-4CB0-814A-88FCBCE16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475320-D2E7-46D9-9ADF-2217538C6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A97C24-E433-42EA-998A-F5137DDA8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E9F754-47B7-47E0-8EB2-37EA7B975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A111E3-A2B9-4DAA-877B-2474E0DFF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45F082-6AC1-41A7-9BC9-95DB1C5FA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92A648-8344-438A-99F3-BBC96891A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E29D2E-B2F4-4FC5-902A-E74AB96F6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B5F4E-E39B-496C-A495-8968F539A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F0FF1A-FC74-4667-A5CC-7BF68E575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8CB4CC-CF2A-4E79-BBE6-729FB4475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C75D05-0B3F-418B-9FEC-F3E68F9C0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57BD31-C36B-4F01-AEA4-47318CBBC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AA57EB-DC50-4926-A608-43239D37F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45340-6628-43A7-91D1-734B2F578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CC1745-EF28-4181-8A6C-BF217C9EA2AF}" type="datetime"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9145E5-22A3-4CE5-AA9C-C02CF234931E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" name="Rectangle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" name="Rectangle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" name="Rectangle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" name="Rectangle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5" name="Rectangle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" name="Rectangle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" name="Rectangle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D44BF3-1917-4B2B-A4EA-06D247F0AB4F}" type="datetime"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13346D-16B6-42F0-A6B5-405A636A8C2F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9" name="Freeform 17"/>
          <p:cNvSpPr/>
          <p:nvPr/>
        </p:nvSpPr>
        <p:spPr>
          <a:xfrm>
            <a:off x="4829040" y="1073160"/>
            <a:ext cx="4321440" cy="5791320"/>
          </a:xfrm>
          <a:prstGeom prst="pie">
            <a:avLst/>
          </a:pr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0" name="Freeform 18"/>
          <p:cNvSpPr/>
          <p:nvPr/>
        </p:nvSpPr>
        <p:spPr>
          <a:xfrm>
            <a:off x="374760" y="0"/>
            <a:ext cx="5513400" cy="6615000"/>
          </a:xfrm>
          <a:prstGeom prst="pie">
            <a:avLst/>
          </a:pr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1" name="Freeform 19"/>
          <p:cNvSpPr/>
          <p:nvPr/>
        </p:nvSpPr>
        <p:spPr>
          <a:xfrm rot="5236200">
            <a:off x="4461120" y="1483200"/>
            <a:ext cx="4114800" cy="1189080"/>
          </a:xfrm>
          <a:prstGeom prst="pie">
            <a:avLst/>
          </a:pr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2" name="Freeform 20"/>
          <p:cNvSpPr/>
          <p:nvPr/>
        </p:nvSpPr>
        <p:spPr>
          <a:xfrm>
            <a:off x="5943600" y="0"/>
            <a:ext cx="2743200" cy="42670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3" name="Freeform 23"/>
          <p:cNvSpPr/>
          <p:nvPr/>
        </p:nvSpPr>
        <p:spPr>
          <a:xfrm>
            <a:off x="5943600" y="4267080"/>
            <a:ext cx="3200400" cy="11430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4" name="Freeform 24"/>
          <p:cNvSpPr/>
          <p:nvPr/>
        </p:nvSpPr>
        <p:spPr>
          <a:xfrm>
            <a:off x="5943600" y="0"/>
            <a:ext cx="1371600" cy="42670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5" name="Freeform 25"/>
          <p:cNvSpPr/>
          <p:nvPr/>
        </p:nvSpPr>
        <p:spPr>
          <a:xfrm>
            <a:off x="5948280" y="4246560"/>
            <a:ext cx="2090880" cy="261144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6" name="Freeform 26"/>
          <p:cNvSpPr/>
          <p:nvPr/>
        </p:nvSpPr>
        <p:spPr>
          <a:xfrm>
            <a:off x="5943600" y="4267080"/>
            <a:ext cx="160020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7" name="Freeform 27"/>
          <p:cNvSpPr/>
          <p:nvPr/>
        </p:nvSpPr>
        <p:spPr>
          <a:xfrm>
            <a:off x="5943600" y="1371600"/>
            <a:ext cx="3200400" cy="28954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8" name="Freeform 28"/>
          <p:cNvSpPr/>
          <p:nvPr/>
        </p:nvSpPr>
        <p:spPr>
          <a:xfrm>
            <a:off x="5943600" y="1752480"/>
            <a:ext cx="3200400" cy="25146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9" name="Freeform 29"/>
          <p:cNvSpPr/>
          <p:nvPr/>
        </p:nvSpPr>
        <p:spPr>
          <a:xfrm>
            <a:off x="990720" y="4267080"/>
            <a:ext cx="495288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0" name="Freeform 30"/>
          <p:cNvSpPr/>
          <p:nvPr/>
        </p:nvSpPr>
        <p:spPr>
          <a:xfrm>
            <a:off x="533520" y="4267080"/>
            <a:ext cx="533376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1" name="Freeform 31"/>
          <p:cNvSpPr/>
          <p:nvPr/>
        </p:nvSpPr>
        <p:spPr>
          <a:xfrm>
            <a:off x="366840" y="2438280"/>
            <a:ext cx="5638680" cy="18288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2" name="Freeform 32"/>
          <p:cNvSpPr/>
          <p:nvPr/>
        </p:nvSpPr>
        <p:spPr>
          <a:xfrm>
            <a:off x="366840" y="2133720"/>
            <a:ext cx="5638680" cy="213336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3" name="Freeform 33"/>
          <p:cNvSpPr/>
          <p:nvPr/>
        </p:nvSpPr>
        <p:spPr>
          <a:xfrm>
            <a:off x="4572000" y="4267080"/>
            <a:ext cx="1371600" cy="2590920"/>
          </a:xfrm>
          <a:prstGeom prst="pie">
            <a:avLst/>
          </a:pr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4" name="Rectangle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5" name="Rectangle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6" name="Rectangle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7" name="Rectangle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8" name="Rectangle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9" name="Rectangle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E69979-929E-4D45-B0D4-F01877FEB12E}" type="datetime"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96EA3C-226C-48A3-BD8B-F96852FC5687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C69B199-32EA-43F2-856E-28EA8FDD3F09}" type="datetime"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D9A14AD-DF0F-4436-8AAD-AB66DF5D640D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3" name="Rectangle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4" name="Rectangle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5" name="Rectangle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6" name="Rectangle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7" name="Rectangle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8" name="Rectangle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9" name="Rectangle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0" name="Rectangle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1" name="Rectangle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39A241-4975-4BD9-A2EE-25A58167484A}" type="datetime"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4B35DA-2BBD-44EE-9E0A-506A7A13A5F3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0DE1E3A-CC3F-4FA0-AC82-364FC4E5DA86}" type="datetime"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66676B7-6494-4C5A-A724-65B7501A7693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5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6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7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8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9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0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1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2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3" name="Rectangle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4" name="Straight Connector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grpSp>
        <p:nvGrpSpPr>
          <p:cNvPr id="315" name="Group 19"/>
          <p:cNvGrpSpPr/>
          <p:nvPr/>
        </p:nvGrpSpPr>
        <p:grpSpPr>
          <a:xfrm>
            <a:off x="8516880" y="1217520"/>
            <a:ext cx="128160" cy="131760"/>
            <a:chOff x="8516880" y="1217520"/>
            <a:chExt cx="128160" cy="131760"/>
          </a:xfrm>
        </p:grpSpPr>
        <p:sp>
          <p:nvSpPr>
            <p:cNvPr id="316" name="Straight Connector 20"/>
            <p:cNvSpPr/>
            <p:nvPr/>
          </p:nvSpPr>
          <p:spPr>
            <a:xfrm>
              <a:off x="8572320" y="121752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17" name="Straight Connector 23"/>
            <p:cNvSpPr/>
            <p:nvPr/>
          </p:nvSpPr>
          <p:spPr>
            <a:xfrm>
              <a:off x="8516880" y="1283040"/>
              <a:ext cx="1033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18" name="Straight Connector 24"/>
            <p:cNvSpPr/>
            <p:nvPr/>
          </p:nvSpPr>
          <p:spPr>
            <a:xfrm flipV="1">
              <a:off x="8572320" y="128232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grpSp>
        <p:nvGrpSpPr>
          <p:cNvPr id="319" name="Group 25"/>
          <p:cNvGrpSpPr/>
          <p:nvPr/>
        </p:nvGrpSpPr>
        <p:grpSpPr>
          <a:xfrm>
            <a:off x="8669160" y="1370160"/>
            <a:ext cx="128880" cy="131760"/>
            <a:chOff x="8669160" y="1370160"/>
            <a:chExt cx="128880" cy="131760"/>
          </a:xfrm>
        </p:grpSpPr>
        <p:sp>
          <p:nvSpPr>
            <p:cNvPr id="320" name="Straight Connector 26"/>
            <p:cNvSpPr/>
            <p:nvPr/>
          </p:nvSpPr>
          <p:spPr>
            <a:xfrm>
              <a:off x="8725320" y="137016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21" name="Straight Connector 27"/>
            <p:cNvSpPr/>
            <p:nvPr/>
          </p:nvSpPr>
          <p:spPr>
            <a:xfrm>
              <a:off x="8669160" y="1435680"/>
              <a:ext cx="1036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22" name="Straight Connector 28"/>
            <p:cNvSpPr/>
            <p:nvPr/>
          </p:nvSpPr>
          <p:spPr>
            <a:xfrm flipV="1">
              <a:off x="8725320" y="143496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grpSp>
        <p:nvGrpSpPr>
          <p:cNvPr id="323" name="Group 29"/>
          <p:cNvGrpSpPr/>
          <p:nvPr/>
        </p:nvGrpSpPr>
        <p:grpSpPr>
          <a:xfrm>
            <a:off x="8321760" y="1473120"/>
            <a:ext cx="128160" cy="131760"/>
            <a:chOff x="8321760" y="1473120"/>
            <a:chExt cx="128160" cy="131760"/>
          </a:xfrm>
        </p:grpSpPr>
        <p:sp>
          <p:nvSpPr>
            <p:cNvPr id="324" name="Straight Connector 30"/>
            <p:cNvSpPr/>
            <p:nvPr/>
          </p:nvSpPr>
          <p:spPr>
            <a:xfrm>
              <a:off x="8377200" y="147312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25" name="Straight Connector 31"/>
            <p:cNvSpPr/>
            <p:nvPr/>
          </p:nvSpPr>
          <p:spPr>
            <a:xfrm>
              <a:off x="8321760" y="1538640"/>
              <a:ext cx="1033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26" name="Straight Connector 32"/>
            <p:cNvSpPr/>
            <p:nvPr/>
          </p:nvSpPr>
          <p:spPr>
            <a:xfrm flipV="1">
              <a:off x="8377200" y="153792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5CD50D-B005-4EE6-8501-D55A29C9DF86}" type="datetime"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627D7D2-7CA7-4AEE-8B1E-3211E94F1134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biology.plosjournals.org/perlserv/?request=get-document&amp;doi=10.1371/journal.pbio.0020309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Title 1" descr=""/>
          <p:cNvPicPr/>
          <p:nvPr/>
        </p:nvPicPr>
        <p:blipFill>
          <a:blip r:embed="rId1"/>
          <a:stretch/>
        </p:blipFill>
        <p:spPr>
          <a:xfrm>
            <a:off x="907920" y="4340160"/>
            <a:ext cx="7785360" cy="1981440"/>
          </a:xfrm>
          <a:prstGeom prst="rect">
            <a:avLst/>
          </a:prstGeom>
          <a:ln w="0">
            <a:noFill/>
          </a:ln>
        </p:spPr>
      </p:pic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914400" y="2835000"/>
            <a:ext cx="7772400" cy="1508040"/>
          </a:xfrm>
          <a:prstGeom prst="rect">
            <a:avLst/>
          </a:prstGeom>
          <a:noFill/>
          <a:ln w="0">
            <a:noFill/>
          </a:ln>
        </p:spPr>
        <p:txBody>
          <a:bodyPr lIns="100440" rIns="900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To infinity and beyond….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What is it?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Text-mining system for scientific literature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lnSpc>
                <a:spcPct val="80000"/>
              </a:lnSpc>
              <a:spcBef>
                <a:spcPts val="55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Full body text search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lnSpc>
                <a:spcPct val="80000"/>
              </a:lnSpc>
              <a:spcBef>
                <a:spcPts val="55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Biological categories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lnSpc>
                <a:spcPct val="80000"/>
              </a:lnSpc>
              <a:spcBef>
                <a:spcPts val="499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Groups of terms describing a concept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lnSpc>
                <a:spcPct val="80000"/>
              </a:lnSpc>
              <a:spcBef>
                <a:spcPts val="55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personal curation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Developed by Hans-Michael Muller et al.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lnSpc>
                <a:spcPct val="80000"/>
              </a:lnSpc>
              <a:spcBef>
                <a:spcPts val="55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part of WormBase at CalTech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lnSpc>
                <a:spcPct val="80000"/>
              </a:lnSpc>
              <a:spcBef>
                <a:spcPts val="55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Extensive C. elegans curation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lnSpc>
                <a:spcPct val="80000"/>
              </a:lnSpc>
              <a:spcBef>
                <a:spcPts val="55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eb8803"/>
                </a:solidFill>
                <a:uFillTx/>
                <a:latin typeface="Corbel"/>
                <a:hlinkClick r:id="rId1"/>
              </a:rPr>
              <a:t>Textpresso: an ontology-based information retrieval and extraction system for biological literature</a:t>
            </a: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 </a:t>
            </a:r>
            <a:br>
              <a:rPr sz="2200"/>
            </a:b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Muller HM, Kenny EE, Sternberg PW </a:t>
            </a:r>
            <a:br>
              <a:rPr sz="2200"/>
            </a:b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PLoS Biol. 2004 Nov;2(11):e309. Epub 2004 Sep 21. 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Textpresso.org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urrent Status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orbel"/>
              </a:rPr>
              <a:t>Fork project</a:t>
            </a: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lnSpc>
                <a:spcPct val="80000"/>
              </a:lnSpc>
              <a:spcBef>
                <a:spcPts val="451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Hosted on Sourceforge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lnSpc>
                <a:spcPct val="80000"/>
              </a:lnSpc>
              <a:spcBef>
                <a:spcPts val="425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Corbel"/>
              </a:rPr>
              <a:t>http://sourceforge.net/projects/textpresso</a:t>
            </a: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orbel"/>
              </a:rPr>
              <a:t>Interface overhaul</a:t>
            </a: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lnSpc>
                <a:spcPct val="80000"/>
              </a:lnSpc>
              <a:spcBef>
                <a:spcPts val="451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Heavy integration with jquery datatables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lnSpc>
                <a:spcPct val="80000"/>
              </a:lnSpc>
              <a:spcBef>
                <a:spcPts val="425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Corbel"/>
              </a:rPr>
              <a:t>http://datatables.net </a:t>
            </a: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lnSpc>
                <a:spcPct val="80000"/>
              </a:lnSpc>
              <a:spcBef>
                <a:spcPts val="451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User login/registration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lnSpc>
                <a:spcPct val="80000"/>
              </a:lnSpc>
              <a:spcBef>
                <a:spcPts val="451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Manage corpus through GUI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orbel"/>
              </a:rPr>
              <a:t>Significant code rewrite</a:t>
            </a: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lnSpc>
                <a:spcPct val="80000"/>
              </a:lnSpc>
              <a:spcBef>
                <a:spcPts val="451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Modularization/customization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lnSpc>
                <a:spcPct val="80000"/>
              </a:lnSpc>
              <a:spcBef>
                <a:spcPts val="425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Corbel"/>
              </a:rPr>
              <a:t>Better database support</a:t>
            </a: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lnSpc>
                <a:spcPct val="80000"/>
              </a:lnSpc>
              <a:spcBef>
                <a:spcPts val="425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Corbel"/>
              </a:rPr>
              <a:t>Plug-in API</a:t>
            </a: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lnSpc>
                <a:spcPct val="80000"/>
              </a:lnSpc>
              <a:spcBef>
                <a:spcPts val="451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Ajaxification 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lnSpc>
                <a:spcPct val="80000"/>
              </a:lnSpc>
              <a:spcBef>
                <a:spcPts val="451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peed increase 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lnSpc>
                <a:spcPct val="80000"/>
              </a:lnSpc>
              <a:spcBef>
                <a:spcPts val="425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Corbel"/>
              </a:rPr>
              <a:t>code works poorly with MacOSX</a:t>
            </a: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lnSpc>
                <a:spcPct val="80000"/>
              </a:lnSpc>
              <a:spcBef>
                <a:spcPts val="451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Future Roadmap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Web services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Smarter paper analysis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lnSpc>
                <a:spcPct val="90000"/>
              </a:lnSpc>
              <a:spcBef>
                <a:spcPts val="601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Methods tagging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lnSpc>
                <a:spcPct val="90000"/>
              </a:lnSpc>
              <a:spcBef>
                <a:spcPts val="601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Better PageRank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lnSpc>
                <a:spcPct val="90000"/>
              </a:lnSpc>
              <a:spcBef>
                <a:spcPts val="55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references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In-browser paper display/highlighting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lnSpc>
                <a:spcPct val="90000"/>
              </a:lnSpc>
              <a:spcBef>
                <a:spcPts val="601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a la Google Books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Better command line functionality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Proper GMOD integration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lnSpc>
                <a:spcPct val="90000"/>
              </a:lnSpc>
              <a:spcBef>
                <a:spcPts val="601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Bioperl mashups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Questions/Suggestions?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nml5566@gmail.com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5T16:23:44Z</dcterms:created>
  <dc:creator>Nathan Liles</dc:creator>
  <dc:description/>
  <dc:language>en-US</dc:language>
  <cp:lastModifiedBy>Nathan Liles</cp:lastModifiedBy>
  <dcterms:modified xsi:type="dcterms:W3CDTF">2010-01-22T18:17:10Z</dcterms:modified>
  <cp:revision>5</cp:revision>
  <dc:subject/>
  <dc:title>Textpresso</dc:title>
</cp:coreProperties>
</file>